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BAC6D-E23E-4904-BC8B-5530C0A6A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76231-4A69-4734-B2E2-F81EC5034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F38CE-23C8-4F7F-8C3D-0296454C3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C953D-8127-4A0B-9E42-3A42CC3E6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96043-145A-4E36-81DE-BBB293A6EF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88620-C6BE-4730-AC3A-D520EC005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5E575-E19D-49BC-8EEC-E03BDA1F1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2A9F4-4744-42E4-945B-D245E3C27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8E243-F8B4-4CCA-87C8-0CE866E9A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785DC-C9DB-4719-A1E3-45C20DAD3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A0C1F-7F4F-4F3D-A814-8C05AFF34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399DF-06A1-4493-B646-F88513031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755CF-6D5D-45D3-875C-634749FF9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49663-25D0-45A7-B516-126457F75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F64E6-F722-413D-9DA0-0C28585B7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FDDF2B-DB9D-4F1E-8907-B117BB332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B4B7F8-DAD2-4A82-A0F0-FA86CBAB42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60A7E-C4F5-42D2-BE3E-CB0E48B0D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D85F5-472E-4FD5-8BDD-FB01A89A7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99EF0-A10A-4248-92CB-2814B1F4C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101EB-9079-4ED0-9CCE-FED21CE73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1AB58-D85E-41A8-B09F-8BAAF75BE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EBB44-125C-4BDC-9AEF-78BEB8491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BC70C-8239-49B0-8DA8-3DE91E443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FFB2-8F84-45FA-9DCA-B832BC761D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5A75-8E0F-42BC-97B6-459DACE0789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十章</a:t>
            </a:r>
            <a:r>
              <a:rPr b="1" lang="en-US" sz="3600" spc="-1" strike="noStrike">
                <a:solidFill>
                  <a:srgbClr val="ffffcc"/>
                </a:solidFill>
                <a:latin typeface="宋体"/>
              </a:rPr>
              <a:t>  </a:t>
            </a:r>
            <a:r>
              <a:rPr b="1" lang="zh-CN" sz="3600" spc="-1" strike="noStrike">
                <a:solidFill>
                  <a:srgbClr val="ffffcc"/>
                </a:solidFill>
                <a:latin typeface="宋体"/>
              </a:rPr>
              <a:t>保险公司计划与统计管理</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指标</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ea typeface="楷体_GB2312"/>
              </a:rPr>
              <a:t>保险</a:t>
            </a:r>
            <a:r>
              <a:rPr b="1" lang="zh-CN" sz="3200" spc="-1" strike="noStrike">
                <a:solidFill>
                  <a:srgbClr val="ffffcc"/>
                </a:solidFill>
                <a:latin typeface="楷体_GB2312"/>
                <a:ea typeface="楷体_GB2312"/>
              </a:rPr>
              <a:t>计划指标是指保险公司在计划期内的具体目标和发展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指标按性质可分为质量指标和数量指标。</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质量指标是用相对数表示的保险公司在计划期内业务经营活动在质量上应达到的目标，它反映的是保险经营质量水平。保险计划的质量指标有利润率、综合费用率、赔付率、投资利润率、人均保费收入、人均利润等。</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数量指标是用绝对数来表示保险公司在计划期内业务经营活动在数量上应达到的目标。保险计划的数量指标有保费收入、营业费用、利润总额、投资收入、职工人数、工资总额等。</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编制、执行和控制</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250560" y="2060640"/>
            <a:ext cx="712476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编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编制保险计划</a:t>
            </a:r>
            <a:r>
              <a:rPr b="1" lang="zh-CN" sz="3200" spc="-1" strike="noStrike">
                <a:solidFill>
                  <a:srgbClr val="ffffcc"/>
                </a:solidFill>
                <a:latin typeface="楷体_GB2312"/>
                <a:ea typeface="楷体_GB2312"/>
              </a:rPr>
              <a:t>是保险计划管理的第一步，它一般分为三个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准备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编制计划草案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计划确定阶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的组织执行</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的组织执行是计划管理过程中的一项细致而复杂的管理活动，是计划管理的主体。</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保险计划组织执行的具体工作主要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指标分解</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建立内部经济责任制</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加强日常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1916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的控制与调整</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1" lang="zh-CN" sz="2800" spc="-1" strike="noStrike">
                <a:solidFill>
                  <a:srgbClr val="ffffcc"/>
                </a:solidFill>
                <a:latin typeface="楷体_GB2312"/>
                <a:ea typeface="楷体_GB2312"/>
              </a:rPr>
              <a:t>为了实现有效的控制，保险公司必须做到以下几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建立公司信息系统</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实行标准化计划管理</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公司领导要定期检查计划执行进度、计划完成情况以及计划执行中出现的偏差，并分析偏差的原因，采取措施及时纠正。</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4360" y="29242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四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保险统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统计的概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是指用统计理论和方法，对保险公司的全部经营活动及其反映的数字资料进行全面、准确的分析、整理、记载、归类和计算。</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管理概述</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统计的意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全面了解保险公司经营状况，为编制保险经营计划和经营决策提供依据</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为开展保险理论和实务研究提供可靠的数据资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为保险公司各部门和职工参与公司管理、实行经济核算提供资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统计的内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保险业务成果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财务收支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业务费用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赔付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人事统计</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保险统计的步骤</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工作分为统计设计、统计调查、统计整理和统计分析研究四个基本步骤。</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保险统计管理的要求</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4360" y="404640"/>
            <a:ext cx="7772400" cy="511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名词解释：</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长期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年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进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简述保险计划管理的意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简述保险计划管理应遵循的基本原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列举保险公司计划指标中的质量指标和数量指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保险公司在计划编制时应收集哪些主要信息？</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统计工作的主要内容有哪些？</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7.</a:t>
            </a:r>
            <a:r>
              <a:rPr b="1" lang="zh-CN" sz="3200" spc="-1" strike="noStrike">
                <a:solidFill>
                  <a:srgbClr val="ffffcc"/>
                </a:solidFill>
                <a:latin typeface="楷体_GB2312"/>
                <a:ea typeface="楷体_GB2312"/>
              </a:rPr>
              <a:t>简述保险统计的步骤以及统计时应注意的问题。</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755640" y="213372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管理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管理就是运用计划的形式来组织、领导、监督和调节保险公司经营活动的一种制度和方法，是保险公司各项管理工作的基础，也是保险公司管理中最基本的方法之一。</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计划工作的具体内容包括：编制计划、组织执行计划和监督控制计划三个阶段。</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实行保险计划管理的意义</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保险计划管理有利于提高保险公司的经营管理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实行保险计划管理是提高保险经济效益的重要途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保险计划为保险公司确定了发展方向和目标。</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管理的原则</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为了使保险计划管理工作更好地发挥职能，保险计划管理应该遵循下列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科学性、法律性、政策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严肃性与灵活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统一计划与分级管理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专业性和群众性相结合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种类和指标</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种类</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一</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按计划期和作用的不同分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计划按计划期和作用的不同，可分为长中期计划、年度计划和进度计划。</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楷体_GB2312"/>
                <a:ea typeface="楷体_GB2312"/>
              </a:rPr>
              <a:t>二）按性质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按性质又可分为保险业务收入计划、财务收支计划、投资计划、固定资产投资计划、机构人员编制计划、劳动工资计划、职工教育计划、技术设施计划和经济核算指标计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6:51Z</dcterms:modified>
  <cp:revision>55</cp:revision>
  <dc:subject/>
  <dc:title>没有幻灯片标题</dc:title>
</cp:coreProperties>
</file>